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6280" y="6429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082520"/>
            <a:ext cx="35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Leadership in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920" y="2297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6280" y="2703600"/>
            <a:ext cx="207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Leadership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8200" y="545472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8200" y="443880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6165720" y="5992920"/>
            <a:ext cx="220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1353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components of motivation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act and make decisions without the help or advice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760" y="3873600"/>
            <a:ext cx="4135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0760" y="1285920"/>
            <a:ext cx="8564400" cy="480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74280" y="194940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Qui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898720"/>
            <a:ext cx="7448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cember 1, 1955, Rosa Parks, an African American seamstress, was ordered to give her bus seat to a white male passenger in Montgomery, Alabama. Her refusal and subsequent arrest sparked the civil rights m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nfiden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self-confident means knowing what to do and taking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ident leader is decisive and makes others feel confident in their leader’s abil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unication Skill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1353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al with some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human re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s, leaders have to apply conflict resolution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huma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how people interact in the workplace and how communication can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unication Skill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ntor is a trusted counselor or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entors, leaders can better understand employees and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5520" y="1461960"/>
            <a:ext cx="142236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95640" y="1268280"/>
            <a:ext cx="5886360" cy="4918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400" y="2130120"/>
            <a:ext cx="2692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40000"/>
                </a:solidFill>
                <a:latin typeface="Arial"/>
              </a:rPr>
              <a:t>How Good Are Your Communication Skills?</a:t>
            </a:r>
            <a:endParaRPr b="1" lang="en-US" sz="20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tegr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1353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st highly valued quality in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need to set a good example and follow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herence to a code of ethical values such as honesty, loyalty, and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5760" y="1751040"/>
            <a:ext cx="8772480" cy="4443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2120" y="20048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veloping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1400" y="2758680"/>
            <a:ext cx="78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408f"/>
                </a:solidFill>
                <a:latin typeface="Arial"/>
              </a:rPr>
              <a:t>Read books, watch videos, and take courses on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3579480"/>
            <a:ext cx="78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408f"/>
                </a:solidFill>
                <a:latin typeface="Arial"/>
              </a:rPr>
              <a:t>Work with someone who has leadership ability and study what he or she d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1400" y="4417560"/>
            <a:ext cx="78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408f"/>
                </a:solidFill>
                <a:latin typeface="Arial"/>
              </a:rPr>
              <a:t>Join a club, a team, a drama group, or a community organ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" y="5285880"/>
            <a:ext cx="78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408f"/>
                </a:solidFill>
                <a:latin typeface="Arial"/>
              </a:rPr>
              <a:t>Take the initiative at school, at work, or in club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Why are some managers not lea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31464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Some managers are not leaders because they do not have a vision for the organization and do not inspire others to work toward a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What are the three motivational qualities that leader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03320" y="329868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The three motivational qualities that leaders have are initiative, ability to motivate others, and ability to set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5480" y="2097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a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3680" y="2565360"/>
            <a:ext cx="711216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lead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qualities of a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t least three ways in which an individual can develop leadership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2040" y="1200240"/>
            <a:ext cx="8491680" cy="5024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How can leadership skills be develo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03320" y="328608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by taking courses on leadership, studying a leader, joining a club, or taking initiative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111720" y="5951520"/>
            <a:ext cx="231480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52120" y="263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93680" y="2565360"/>
            <a:ext cx="69278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 develop a vision for the organization that they are leading. They move employees and their organization toward that vision. The qualities of leaders include motivation, confidence, communication skills, and integ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and Lead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3680" y="2975400"/>
            <a:ext cx="3538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3680" y="4489920"/>
            <a:ext cx="2443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9840" y="4014720"/>
            <a:ext cx="6754680" cy="0"/>
          </a:xfrm>
          <a:prstGeom prst="line">
            <a:avLst/>
          </a:prstGeom>
          <a:ln w="255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778480"/>
            <a:ext cx="5307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company and its employees in a direction based upon 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4287960"/>
            <a:ext cx="5205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act and make decisions without the help or advice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96560" y="2097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125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3680" y="2775240"/>
            <a:ext cx="3538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human</a:t>
            </a:r>
            <a:br>
              <a:rPr sz="2400"/>
            </a:b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93680" y="4489920"/>
            <a:ext cx="2443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9840" y="4014720"/>
            <a:ext cx="6754680" cy="0"/>
          </a:xfrm>
          <a:prstGeom prst="line">
            <a:avLst/>
          </a:prstGeom>
          <a:ln w="255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9200" y="2578320"/>
            <a:ext cx="5589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how people interact in the workplace and how communication can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89200" y="4087800"/>
            <a:ext cx="5483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herence to a code of ethical values such as honesty, loyalty, and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naging and Leading Other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1353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ore to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leade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just being in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company and its employees in a direction based upon 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naging and Leading Other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know thei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know the capabilities of their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can analyze current tr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have vision and can inspir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help a company run smoot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naging and Leading Other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who are managers are not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 focus on specific tasks to make sure work gets done, but they may not be visionaries or inspir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Glencoe/McGraw-Hill</dc:creator>
  <dc:description/>
  <dc:language>en-US</dc:language>
  <cp:lastModifiedBy>Madeira Station</cp:lastModifiedBy>
  <dcterms:modified xsi:type="dcterms:W3CDTF">2007-02-22T23:15:45Z</dcterms:modified>
  <cp:revision>80</cp:revision>
  <dc:subject/>
  <dc:title>Introduction to Business</dc:title>
</cp:coreProperties>
</file>